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376-5A42-4D56-94FA-DF42FCB9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A53-D077-48BB-B48C-5D80EB9C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815-CD34-4AC1-807E-E5F76478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57C-7222-45C8-80D5-D1BC88CD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FB6-EBEF-4A85-A582-9AEA5B9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1D2-8825-4766-A06B-C7BAB00E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A8F-B4E2-44FA-8077-FBDA1484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3BB-8D82-4981-8644-6D89EBD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A44-6AED-423E-B68F-65FA52F8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466-8A5F-42B1-997B-8430B80E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309-AEC9-415A-B95D-0F915C4A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5D1-9119-4729-A6BD-EB2D2FC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6ED1D-4627-4582-904A-0016B5305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7F3BE-5F92-4103-84B9-8C672E1AA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du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History and Scope of Psyc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ohn Watson/B.F. Skinner/Ivan Pavlo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4" descr="Stivers 2-14-03 Behaviorism cafe.gif"/>
          <p:cNvPicPr/>
          <p:nvPr/>
        </p:nvPicPr>
        <p:blipFill>
          <a:blip r:embed="rId1"/>
          <a:stretch/>
        </p:blipFill>
        <p:spPr>
          <a:xfrm>
            <a:off x="457200" y="2251080"/>
            <a:ext cx="4038480" cy="3224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udy relationship between stimuli and behav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e scientific; the stimuli can be controll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cused on learning and condition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eyond Freedom and Dignit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1971) by B.F. Skinner: The Walden Two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EHAVIO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day focus: education and training in military. Animal tric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raham Mas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umans can impact the environment as much as the environment can impact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e non-passive or active in the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UM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day focus: intervention on environment to aid individu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maslows.gif"/>
          <p:cNvPicPr/>
          <p:nvPr/>
        </p:nvPicPr>
        <p:blipFill>
          <a:blip r:embed="rId1"/>
          <a:stretch/>
        </p:blipFill>
        <p:spPr>
          <a:xfrm>
            <a:off x="4381560" y="1417680"/>
            <a:ext cx="4762440" cy="376380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haviorism versus Hum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b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is responsible for own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ocates punishment/rewards as means of social 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 reacts to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ocates intervention to foster personal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gmund Freu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4" descr="idegosuperego.jpg"/>
          <p:cNvPicPr/>
          <p:nvPr/>
        </p:nvPicPr>
        <p:blipFill>
          <a:blip r:embed="rId1"/>
          <a:stretch/>
        </p:blipFill>
        <p:spPr>
          <a:xfrm>
            <a:off x="289080" y="1981080"/>
            <a:ext cx="4429080" cy="381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conscious mind is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d, the ego, and the super-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eam analysis and free asso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cus on formative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YCHOANALY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psych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r own behavior, i.e. shyness in certain circum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’s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aping . This is about rewards and punis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nemonic de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ining “psychology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l/human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ervable behavior and unobservable, i.e. dreams and fantas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st study all aspects of human behavior to know it, i.e. shyness at school, but not at home (see Three blind 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aturalistic observ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ntrolled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entific basis of psych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als of Psychology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ain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ypothesis           the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:  basic science (research)     applied science (treat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oneers in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dule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s of Psyc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lhelm Wund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6" descr="250px-Wundt-research-group.jpg"/>
          <p:cNvPicPr/>
          <p:nvPr/>
        </p:nvPicPr>
        <p:blipFill>
          <a:blip r:embed="rId1"/>
          <a:stretch/>
        </p:blipFill>
        <p:spPr>
          <a:xfrm>
            <a:off x="425520" y="2362320"/>
            <a:ext cx="406080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ipzig, Germany 187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boratory of Psych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lied physiology to the m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se of self-observation (introspec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RUCTUR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day focus: biochemical basis of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lliam Ja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James.gif"/>
          <p:cNvPicPr/>
          <p:nvPr/>
        </p:nvPicPr>
        <p:blipFill>
          <a:blip r:embed="rId1"/>
          <a:stretch/>
        </p:blipFill>
        <p:spPr>
          <a:xfrm>
            <a:off x="98280" y="2133720"/>
            <a:ext cx="4397400" cy="319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Principles of Psychology (189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tivities of the mind have one function: survival of spe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volutionary processes are import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UNCTION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day focus: motivation and emo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ychology Hugh Plouffe Korea International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45:35Z</dcterms:created>
  <dc:creator>MacAdmin Kis</dc:creator>
  <dc:description/>
  <dc:language>en-US</dc:language>
  <cp:lastModifiedBy>MacAdmin Kis</cp:lastModifiedBy>
  <dcterms:modified xsi:type="dcterms:W3CDTF">2009-02-16T01:09:35Z</dcterms:modified>
  <cp:revision>11</cp:revision>
  <dc:subject/>
  <dc:title>Introduction to Psychology</dc:title>
</cp:coreProperties>
</file>